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E380-19AD-49D1-83D7-A2D185A9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F04-667E-4356-A3CA-37592555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A71-1AEE-4E10-84F9-F6D58BD6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57C0-B19F-4172-B4CB-0CE2DE14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B9B2-79E4-4A6B-9ADF-63A6B42F9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EBA4-5F34-4394-B2F4-65B7B059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A5AD-7F9C-4F41-B2BF-C5081850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A786-B1C0-4251-9C77-F54E3ED9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B38C-FC8A-4E3B-870D-F908AC0C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DF1D-2924-48A9-8086-3BF5940F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8E6F-1DD0-46ED-A0DA-40022E18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3C3-4481-4C20-AA36-2A320119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2742E-6F1F-4B64-8E3E-E5478794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7932-01DC-44F3-BA5D-80061256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CEC0-8277-4DA1-A200-44A3CAD9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3909-A02B-4EEB-B5D4-AEFFE36F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D7DB-9D7C-47A5-8EC4-AC3B149ED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CDE3-3334-495E-A074-21403CD6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995-9387-4056-AB44-D706159F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BB75-3E6B-41A2-8840-58AD0DD9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84E-CCD3-4F2D-9991-5B7271EF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6F5F-D0B1-4B82-82D3-63A10913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B12-DA18-4B99-A269-2EF3ACF4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90B-0315-4C19-8E19-476D0006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1A04-C704-45F3-ADD8-B81ACB7C71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1569-ED58-41AD-BFCC-25893CFB592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144792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under Rose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33160" y="411444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 1 Week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THUNDER ROSE"/>
          <p:cNvPicPr/>
          <p:nvPr/>
        </p:nvPicPr>
        <p:blipFill>
          <a:blip r:embed="rId1"/>
          <a:stretch/>
        </p:blipFill>
        <p:spPr>
          <a:xfrm>
            <a:off x="6095880" y="457200"/>
            <a:ext cx="270036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e act of laying waste; destruct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533520"/>
            <a:ext cx="396252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352680" y="2362320"/>
            <a:ext cx="5029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ut together; fitted together;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built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609480"/>
            <a:ext cx="403848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looked like the construction worker p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itc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own in the pot ho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733920"/>
            <a:ext cx="2210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you know the difference between arteries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vei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ubes in the body that carry bloo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uscles in the legs and arm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657600"/>
            <a:ext cx="8076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llet dancer circl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aintily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ound the flow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lovingl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racefull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4572000"/>
            <a:ext cx="30481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broth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struct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 lego c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lanned for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a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4038480"/>
            <a:ext cx="3505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wboy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rand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cattle to identify the correct own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gistere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rk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4343400"/>
            <a:ext cx="26668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heriff put up wanted posters in order to catch the those people who w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iev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jailbird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ealing someone’s proper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1371600" y="4495680"/>
            <a:ext cx="62485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vast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caused by the hurricane took months for the clean up crews to manag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ctivit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stru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4876920"/>
            <a:ext cx="3581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sang a swe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ullab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the newbor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dig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ft so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3962520"/>
            <a:ext cx="2667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1219320"/>
            <a:ext cx="358164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209680"/>
            <a:ext cx="396216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3429000"/>
            <a:ext cx="358164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800600"/>
            <a:ext cx="396252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1219320"/>
            <a:ext cx="373356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2286000"/>
            <a:ext cx="358128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3276720"/>
            <a:ext cx="4038480" cy="99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4419720"/>
            <a:ext cx="373392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5638680"/>
            <a:ext cx="327672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dy came up with the plan for utilizing the new t-shirts, we knew he was the mo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sourcefu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n our tea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quick-witt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umbfound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4267080"/>
            <a:ext cx="3124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ong for singing to a child; soft song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335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ood at thinking of ways to do things; quick witt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762120"/>
            <a:ext cx="403884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00040" y="2362320"/>
            <a:ext cx="5181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arked by burning the skin with a hot ir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68580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971800" y="23623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With delicate beauty; freshly and prettily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657240" y="2362320"/>
            <a:ext cx="4724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thick, black, sticky substance made from tar or turpentin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457200"/>
            <a:ext cx="37335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tealing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membranous tubes forming part of the system of vessels that carry blood to the heart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a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tru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int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a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ll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Jefferson County BoE</cp:lastModifiedBy>
  <dcterms:modified xsi:type="dcterms:W3CDTF">2008-07-03T06:15:10Z</dcterms:modified>
  <cp:revision>8</cp:revision>
  <dc:subject/>
  <dc:title>Frindle Vocabulary Words</dc:title>
</cp:coreProperties>
</file>